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F99-7C31-45F9-AB22-E3109D89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0F5-BBFC-4BA2-8ADF-98037F5A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5D127-781E-4B73-A480-93AFFCE6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9DDD8-89AD-4E84-9DC0-CFFBFF29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ED118-63FB-4926-B53D-4226A7FA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2B324-3466-46B4-8C30-1735709E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36066-85C1-4F62-9F0C-7B6BC96D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B38A6-3BF2-48D4-801D-BBDF127B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1FBB1-9B80-45A5-AEC6-C371D66C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B670F-ADDD-4438-AFE6-2ED2672A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5E291-F474-4EEB-85BC-4BF63610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B621D-7A69-45FA-9232-B3EEA34B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781-D306-4FF1-B928-576F3718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1B1D6-3F28-4E0A-BBA7-4A3E1151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29F4C-AA77-4EA1-BC8A-1DEA5B70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FCC61-5CF3-4CA2-9BFA-FDE56D29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307DE-B30C-4CC1-82D7-2BDB15B9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035F0-B4FF-4095-9B10-70934553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014B6-B7FF-469E-A9DE-B98493F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5DE96-0B93-44CE-BE1F-0D51B498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49556-D377-4A94-A22E-04C4188D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30235-16E7-4F02-A67B-36B5E4C1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981F4-689D-4E5B-9750-ED49AFBD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5D0-3C82-4367-9F54-83256C0E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A90FB-305F-45EB-A629-F5363C54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493AA-C78A-401B-BE6A-CB30F341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B890C-F369-41BB-9E70-48A2E546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0DE6D-5B76-4AE2-B12A-D97BCF40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05486-7C98-4644-8B3C-1366CA91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A7828-3A0A-4AF9-A4C8-DB3949AF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8C471-CEC1-4488-ACA6-6ED06865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F5622-B8CD-46C4-8B70-DEDDC30B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E96B3-7D91-4105-9DDD-00C95D2B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AB064-E542-4B1A-9914-87AF3704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3404-83D9-4306-9898-68EF8C81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62192-C1EE-4C6A-88DF-729BFD75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7ADC1-CB97-418F-B1F0-7519249E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C8CDB-8584-4FAD-85DD-459BCC8B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74482-D5E6-4EF8-A0CF-B095BD42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0BC6D-3222-440E-81B5-C58CF933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87418-0EE2-48F9-8676-79DCA24B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C4103-954E-4C46-A4A2-3F1DE69D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09A97-0B9F-4FF7-91C6-D6E32956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AEC76-1DDA-4134-B166-5422908E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B13C9-798E-4BB0-8545-0317D45A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323C-BD5F-47A7-B193-5F8B2F76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69B21-1FD5-4C0B-BFB4-CD9D92F9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214A3-AC90-40F0-9DD8-741A1CF3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FCF92-D445-493B-A23A-3E2F6766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F35F2-BD8E-4B5A-AD63-BF3F1FE6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CD34E-BD24-41E7-8E45-CE3FFA4D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4529-D0DA-4987-94D3-93A68BE3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2D5B-CF08-4A11-A3F0-7795325F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5334-8F76-4F18-B293-8EC06EAF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D3B0-6816-4C8E-ADB8-51257080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1756-4E7A-49E2-B6B3-9549D225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E76-86FA-459C-AE14-C9BBCC35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2FD7-ED81-49B1-8F4E-DB67F70A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B048-3CF5-40DB-B2B7-2B90C0FC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A632-D9BC-4521-9AE0-BA8AC136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3590-DE75-4619-9EE7-E4F89C89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F339-158E-457C-904B-BFEBF8D8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41DFF-48AE-4EE4-A9E7-023F217A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0BDB-D4D2-4745-B1EB-DB597FF0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EFA4-04E8-4385-AD90-DEB08929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A350B-E2CE-4CCA-9153-A5D76FE9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BFDA9-B386-4746-A235-51D1F4DF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14D-7EE3-463D-A52C-66182690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25ED4-E87D-4D7A-8675-81DE4115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69C92-A481-40F0-8DF8-1BBAD6D4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0E7BD-40A1-4F70-90C1-A5DFEEF6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12442-B0EE-41FB-B45C-C80EECA8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EA64-DFEB-4901-8784-E6DCE6A0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D3D8-0799-4BFF-BCE7-5AD54DCB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D545E-29CF-4373-A297-244B20B8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21738-F0DF-4773-B6C7-34EFE391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F3C73-5F77-4A7E-A7C9-67944817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A005F-3EF8-4A0D-A272-4D850D16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E28-9367-4779-8308-4C1F39E8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975D-8230-40A5-82C3-AE65F0D2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BD9F-AFBD-4436-9240-C05B7DDE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90065-7AD9-41F7-929D-E4AE9AD0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661B4-6C19-4D72-AC76-D0AEC12B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B39BE-2AA9-4B4E-8216-C15F21C4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0F2B7-AEB6-4FD7-913C-CFAEDB3C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A39A0-8E0A-4145-9257-20CDB5F5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96B0E-87E8-48FC-9AC9-7FC4E78D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B19C9-1C70-44B9-9EF9-8AA4C466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CA98D-A2F3-4EE3-BD0A-4FAC6576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0CB-ED3C-425F-85FD-D038910A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639F-8901-4C36-A34F-5C7A9050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20490-F7BB-40D1-AF0E-1AA654C0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73CF1-5766-46FF-800F-023DAE6A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CBAE2-FC4D-41A4-A88E-B3AAB9B6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04D24-7BC5-4F27-8E13-43110532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090F3-931F-422C-87DD-468917C3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1C77D-080C-4D49-BDBA-E4FBD39F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559BD-D182-4FF1-B009-AA816C4D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57BE0-6191-4E38-9F0C-51D44E75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ECF5B-9E53-4C0B-A814-A2626EC2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F2F-9CF7-4F43-B291-2582F92F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AD106-893A-4DCB-8840-C3FA931B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3E7EC-4313-4E5D-82CF-C5EFDE48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A65AB-2E16-409F-B744-B825AA3F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CDE78-76A9-49A9-B87D-522E7CC3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2DA7E-8FDE-4321-95BF-D159068C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DF2CC-90B2-45E9-9B08-9502FEE2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9FFB8-80EA-4FC1-A89E-1A0B2B44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4D750-FEE0-4E10-9CC0-4CBA8B47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E54D4-3A15-4DEA-9876-8FCF5F68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7759F-0168-4545-ADD0-F34D2AF5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EF2-8715-4EFD-BC55-EF5D6746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0BCC5-F5AF-4E6A-8196-91BF9625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23681-56AA-4478-8624-0065BF35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D86BD-9585-447C-9928-2380E1C5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7C592-B5A8-4829-B1B2-7868C555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9C269-4255-4E27-9A10-3550257E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1515-DF79-49A5-82DB-EC4E4BE2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C97AC-72BB-497E-A77A-FA717810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65F71-040C-4775-ABB3-ABB9F375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24D3A-22C4-464E-886B-64FCF6B4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A2F6D-E594-4B6E-8A26-338DEDF0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470-2C2E-40F0-89BE-01E48E14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A1584-0A68-4366-ABBD-1396EBC3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6B52C-0C47-4EFA-B315-462F62A6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43312-CE35-467B-B743-90F0A3D3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8FF5E-730E-4E8A-9A90-9CE5921D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C321A-7159-4F42-8489-052DED66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137DE-3C6D-4132-B0DF-2C62CAA3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E41E2-CC98-402B-941A-1E2CEDA9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1233B-7368-4D49-9CE1-00335870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586D7-9248-490B-AD17-B890CA22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E2DC8-4163-4F4F-A4C8-73A38FB8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80D-5A6B-4771-8386-D52DDCFE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7B975-6EA6-4285-868D-0628CC8D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EF0B7-9DAD-4F40-B6D0-1542F370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CEFBE-606B-4BAC-8A8C-500A4E7D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47A61-28E3-48AC-9FE2-2EE009E0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65D05-E471-4AF2-8EE6-3B857248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8012B-35B7-46F0-9F6E-320A30F2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5E437-78DB-4376-B8F4-E932FEEE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B5371-9C3B-421F-B811-CD510F84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AC1BE-D131-441E-AA35-AC8D8EF9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AC3EF-1BF0-4AF5-AE3E-6B62B6C9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9CDF-7D82-40D3-9659-5384A69A645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7ADA-D909-497E-8AD4-89584A03FD1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98E8-F4D7-427B-B960-04C290E297C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DB0E-2E54-4E78-BE0A-45705EF2FCF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9915-A807-4E5E-AE94-954831D301E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69FC-3841-4DCB-8FE6-3C1CDBE9681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2F28-A53E-4A49-BC76-988CC66050F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5DF1-EC8A-445E-AFA1-D24F3385C89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5D06-A96B-4D51-8CCF-DD1800FA038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C11B-FC27-492D-8566-F9E6556EA24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6719-BADB-4D97-AC36-FCE172D4B56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A430-1136-455B-A2B3-2D3D7F08970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Содержимое 4" descr="img3.jpg"/>
          <p:cNvPicPr/>
          <p:nvPr/>
        </p:nvPicPr>
        <p:blipFill>
          <a:blip r:embed="rId1"/>
          <a:stretch/>
        </p:blipFill>
        <p:spPr>
          <a:xfrm>
            <a:off x="357120" y="214200"/>
            <a:ext cx="836460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Picture 2" descr="F:\урок\1616248310.jpeg"/>
          <p:cNvPicPr/>
          <p:nvPr/>
        </p:nvPicPr>
        <p:blipFill>
          <a:blip r:embed="rId1"/>
          <a:stretch/>
        </p:blipFill>
        <p:spPr>
          <a:xfrm>
            <a:off x="642960" y="214200"/>
            <a:ext cx="80722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F:\Photos\3786365390_3f329226fc_o.jpg"/>
          <p:cNvPicPr/>
          <p:nvPr/>
        </p:nvPicPr>
        <p:blipFill>
          <a:blip r:embed="rId1"/>
          <a:stretch/>
        </p:blipFill>
        <p:spPr>
          <a:xfrm>
            <a:off x="214200" y="428760"/>
            <a:ext cx="6107400" cy="40892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F:\Photos\mountainash.jpg"/>
          <p:cNvPicPr/>
          <p:nvPr/>
        </p:nvPicPr>
        <p:blipFill>
          <a:blip r:embed="rId2"/>
          <a:stretch/>
        </p:blipFill>
        <p:spPr>
          <a:xfrm>
            <a:off x="5786280" y="3857760"/>
            <a:ext cx="329580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2" descr="F:\урок\1616248310.jpeg"/>
          <p:cNvPicPr/>
          <p:nvPr/>
        </p:nvPicPr>
        <p:blipFill>
          <a:blip r:embed="rId1"/>
          <a:stretch/>
        </p:blipFill>
        <p:spPr>
          <a:xfrm>
            <a:off x="642960" y="214200"/>
            <a:ext cx="8072280" cy="6286680"/>
          </a:xfrm>
          <a:prstGeom prst="rect">
            <a:avLst/>
          </a:prstGeom>
          <a:ln w="0">
            <a:noFill/>
          </a:ln>
        </p:spPr>
      </p:pic>
      <p:sp>
        <p:nvSpPr>
          <p:cNvPr id="616" name="Рамка 3"/>
          <p:cNvSpPr/>
          <p:nvPr/>
        </p:nvSpPr>
        <p:spPr>
          <a:xfrm rot="5400000">
            <a:off x="499680" y="2356920"/>
            <a:ext cx="3629160" cy="2629080"/>
          </a:xfrm>
          <a:prstGeom prst="pi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Рамка 4"/>
          <p:cNvSpPr/>
          <p:nvPr/>
        </p:nvSpPr>
        <p:spPr>
          <a:xfrm>
            <a:off x="4214880" y="3500280"/>
            <a:ext cx="3628800" cy="2629080"/>
          </a:xfrm>
          <a:prstGeom prst="pi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Рамка 6"/>
          <p:cNvSpPr/>
          <p:nvPr/>
        </p:nvSpPr>
        <p:spPr>
          <a:xfrm rot="5400000">
            <a:off x="3642840" y="785520"/>
            <a:ext cx="3628800" cy="2629080"/>
          </a:xfrm>
          <a:prstGeom prst="pi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Рамка 7"/>
          <p:cNvSpPr/>
          <p:nvPr/>
        </p:nvSpPr>
        <p:spPr>
          <a:xfrm>
            <a:off x="428760" y="1857240"/>
            <a:ext cx="3628800" cy="2629080"/>
          </a:xfrm>
          <a:prstGeom prst="pi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Рамка 8"/>
          <p:cNvSpPr/>
          <p:nvPr/>
        </p:nvSpPr>
        <p:spPr>
          <a:xfrm>
            <a:off x="2000160" y="0"/>
            <a:ext cx="3629160" cy="2629080"/>
          </a:xfrm>
          <a:prstGeom prst="pi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Администратор</cp:lastModifiedBy>
  <dcterms:modified xsi:type="dcterms:W3CDTF">2020-12-13T13:06:22Z</dcterms:modified>
  <cp:revision>60</cp:revision>
  <dc:subject/>
  <dc:title>Слайд 1</dc:title>
</cp:coreProperties>
</file>